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E591-6857-411F-BA66-839A5D65C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F8B0-DC30-4279-BF68-F50942CDB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close the service this morning, I would like all of us to think seriously about any promises we’ve made recently. What have we done about them?  Have you made a promise you haven’t ke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your promises to God?  Have you promised Him your life? Your whole heart?  Can you give Him your most loved treasure, as Hannah did? Would you like to renew your promise to the Lord as we finish this morning’s ser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close, please listen to the words of a beautiful, familiar hymn—but don’t think of it as a hymn but rather as a dedicatory prayer, our promise to our Heavenly Fa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 read it, would you close your eyes and silently renew your promise, your pledge to the Lord of lords, the King of kings, the Father who loves you and will keep His promi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8F1B-738C-4814-8B53-40F540C8E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6E79-5E71-43D9-A857-75B7B6ACA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life, and let i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crated, Lord, to Th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moments and my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m flow in ceaseless pra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hands, and let them m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impulse of Thy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feet, and let them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ft and beautiful for Th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9AC1-21E0-4964-8BCB-44FDE5EFED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voice, and let me 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only, for my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lips, and let them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with messages for Th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silver and my g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 mite would I withh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intellect, an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wer as Thou cho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8996-B1D6-4F70-84FD-67E7E826A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will, and make it Th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all be no longer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heart, it is Thine 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all be Thy royal th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 love; My Lord, I p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y feet its treasure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myself, and I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only, all for Th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rances Ridley Havergal (1836-187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the Lord bless you as you walk with Him each day of your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y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all the prayers you’ve answered during our lifetime. You’ve answered small prayers and big prayers, evening prayers and morning prayers, soft prayers and loud prayers, anxious prayers and peaceful prayers. May our own prayers be shaped according to your faithfulness, becoming less selfish and frantic and more calm and trusting with each day that passes.  In Jesus name we pray, Am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ipture Reading: </a:t>
            </a:r>
            <a:r>
              <a:rPr b="0" lang="en-US" sz="1200" spc="-1" strike="noStrike">
                <a:solidFill>
                  <a:srgbClr val="000000"/>
                </a:solidFill>
                <a:latin typeface="Calibri"/>
              </a:rPr>
              <a:t>I Samuel 1:10-11</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bitterness of soul Hannah wept much and prayed to the Lord. And she made a vow saying, ‘O Lord almighty, if you will only look upon your servant’s misery and remember me, and not forget your servant but give her a son, then I will give him to the Lord for all the days of His life.’” 1 Samuel 1:10-11 (NIV)</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times have you given a promise to someone, a promise that you really meant to keep? But somehow you didn’t keep your promise.  Sometimes we give our word without much thought and then find that it really isn’t possible to keep our promis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we may make promises to ourselves. Many of us start the New Year with a promise to ourselves—to get more exercise, get rid of clutter, spend more time with our Bibles, or less time with the TV.  Yet we often fail within a month, or even a wee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blical Examp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we don’t often think of the Bible as a story book, there are stories in the Bible that are absolutely amazing.  Let’s explore one of these stories today, a story about a woman whose faith was unshakabl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 familiar story, and you probably know more about her son than about the woman we will focus on, but no doubt the son turned out so well because of this remarkable woman.  She was a woman of God.  She believed in prayer. Hannah also had a heart to ask and receive, because she knew the Lord had a heart to giv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can learn much from this woman, an excellent role model, whose belief in prayer was phenomenal. She had no doubt that God was able and willing to answer her prayers.  She was also ready to make a promise to God and keep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4F1C-D4BA-4062-8552-EAAD0020C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4F94-BC03-41F5-906E-EC821923C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he was a woman of fervent piety, gentle and unassuming; her character was marked with deep earnestness and a lofty fa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husband, who was evidently quite wealthy, loved and feared God.  They had everything they could want, everything except a child.  In those days, not bearing a child was considered a terrible shame for the wife.  But her husband reassured his wife that he loved her even though she bore him no children.  His kindness was perhaps unusual in those days when a barren wife was often cas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oday in some parts of the world, a man can divorce his wife if she’s barren.  Some years ago newspapers carried the story of the Shah of Iran divorcing his wife because she gave birth to a daughter, not a son!  The same thing happened in Bible times.  Childless women often had a sad lif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n order to perpetuate his name, the husband took a second wife.  Ellen White tells us this was due to his lack of faith. It certainly caused much heartache. Over the years, the second wife bore many children, but the joy and happiness of the family was destroyed because she missed no opportunity to taunt the first wife about her barren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as Elkanah’s first wife, bore this trial with uncomplaining meekness, but she was crushed, and life seemed to have no purp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Elkanah feared and served God, once a year he took the whole family to Shiloh to worship God.  As a Levite he was required to help out in the Temple if needed.  After offering the required thank offering, the family, according to custom, had a feast.  At this feast the husband used to give gifts to the members of his family—to Peninnah, the mother of his children, a portion for herself and for each of her sons and daughters.  But because he loved Hannah, he gave her a double portion, telling her that in spite of the fact she hadn’t given him any children, he loved her with all his he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year, Peninnah taunted Hannah more than usual.  Because Hannah was in anguish, she wept, but spoke to no one of her grief. She carried her burden quietly by herself. She could share it with no one but God.  She knew that if her barreness was to end, it must end by the hand of God. That is why she brought her barrenness to the L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 lesson for us today. If only we would do that when we feel burdened! When we feel discouraged, do we take it to God in prayer?  Hannah knew she could do 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47A0-EA24-45E4-BD55-D8680AC0D7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r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feast, she went to the temple and there poured her heart out to God. “O Lord of hosts,” she began her prayer, thereby recognizing Him as ruler of heaven and earth. Her words expressed her faith in His power and m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light of God’s majesty,” she thought, “I am nothing.”  She prayed silently, just moving her lips, tears streaming down her cheeks, all her sorrow pouring forth.  Earnestly she pleaded with God to take away her reproach and grant her the precious gift of a son. In turn she promised God she would faithfully nurture and train her son to serve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didn’t ask for a small favour. No, she asked for a miracle!  There was nothing vague in her request!  She made sure there could be no mistake about what she prayed for.  She was specific.  She said, “God, I want a son!  Then I’ll give him back to you for all of hi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gain we can learn from Hannah. We are not to pray vague prayers.  Be specific with God.  Yes, He knows what we are going to ask for, but He wants us to talk to Him, to share our joys and our sorrows.  He wants to be our best friend.  What an incredible opportunity He offers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len White says, in </a:t>
            </a:r>
            <a:r>
              <a:rPr b="0" i="1" lang="en-US" sz="1200" spc="-1" strike="noStrike">
                <a:solidFill>
                  <a:srgbClr val="000000"/>
                </a:solidFill>
                <a:latin typeface="Calibri"/>
              </a:rPr>
              <a:t>Thoughts from the Mount of Bless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ayer is not an expiation for sin; it has no virtue or merit of itself.  All the flowery words at our command are not equivalent to one holy desire.  The most eloquent prayers are but idle words if they do not express the true sentiments of the hear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25F2-0126-4A28-86C1-C2D514504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prayer that comes from an earnest heart, when the simple wants of the soul are expressed, as we would ask an earthly friend for a favor, expecting it to be granted—this is the prayer of faith” (p. 86-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d wants us to approach Him in faith, assured that He cares for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let’s get back to the story.  At that time the people had become corrupt, wandering far from God.  Even the priests, the sons of Eli, were corrupt.  But Hannah’s faith was pure.  She believed her nation needed an upright man, one who could become a link between God and His people.  Was Hannah crying only for herself, or did she weep also for God’s people?  Perhaps because of her burden for her people she decided that the son God would give her, she would dedicate to His service.  This son would belong to God Himself.  He was to do God’s work.  He was going to become a link between God and His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she was praying, Eli, the high priest, saw her and thought she was drunk. Having little compassion, he scolded her. But Hannah assured Eli that she hadn’t touched wine, saying, “I am a woman of sorrowful spirit. I have drunk [no] wine, but have poured out my soul before the Lord…Out of the abundance of my grief I have spoken” (I Sam. 1:15,16 </a:t>
            </a:r>
            <a:r>
              <a:rPr b="0" i="1" lang="en-US" sz="1200" spc="-1" strike="noStrike">
                <a:solidFill>
                  <a:srgbClr val="000000"/>
                </a:solidFill>
                <a:latin typeface="Calibri"/>
              </a:rPr>
              <a:t>NKJV</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4616-F775-4E3C-B71D-EDD06E336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7D7A-38B7-4850-8624-934A574436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 priest, deeply moved, blessed her and told her to go in peace. He assured her that her petition was granted! Hannah believed that her prayer was answered. As we read in Hebrews 11:1, “Now faith is being sure of what we hope for and certain of what we do not see.” (NI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8FF7-3373-4925-9F9E-4C16CD947A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got up from her knees, and you know the rest of the story. She went back home with her family, and a year later her baby was born.  She named him Samuel, a name that means either “Asked of God” or “Heard of God.”  What an appropriate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hort time Hannah had her son with her, she dedicated herself to preparing him for the service of God.  He was her only son, a special gift from heaven, but she had received him as a treasure consecrated to God. She would not withhold her gift from the Giver.  She poured her whole soul into raising her son in the fear of the L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llen White tells us that the mother’s power for good is the strongest power known on earth.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 “</a:t>
            </a:r>
            <a:r>
              <a:rPr b="0" lang="en-AU" sz="800" spc="-1" strike="noStrike">
                <a:solidFill>
                  <a:srgbClr val="000000"/>
                </a:solidFill>
                <a:latin typeface="Calibri"/>
              </a:rPr>
              <a:t>The mother is the queen of the home, and the children are her subjects. She is to rule her household wisely, in the dignity of her motherhood. Her influence in the home is to be paramount; her word, law. If she is a Christian, under God's control, she will command the respect of her children” (</a:t>
            </a:r>
            <a:r>
              <a:rPr b="0" i="1" lang="en-AU" sz="800" spc="-1" strike="noStrike">
                <a:solidFill>
                  <a:srgbClr val="000000"/>
                </a:solidFill>
                <a:latin typeface="Calibri"/>
              </a:rPr>
              <a:t>Adventist Home, </a:t>
            </a:r>
            <a:r>
              <a:rPr b="0" lang="en-AU" sz="800" spc="-1" strike="noStrike">
                <a:solidFill>
                  <a:srgbClr val="000000"/>
                </a:solidFill>
                <a:latin typeface="Calibri"/>
              </a:rPr>
              <a:t>p. 232).</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nnah took her responsibility very seriously. Her care reminds us of what a responsibility we have as parent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r prayer was radical in nature. So was her dedication. Prayer, faith and dedication continued to characterize her life, for Hannah knew that a person who gave all to God would receive more in return.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a few years passed, once again Hannah traveled to Shiloh with her husband, but what a difference!  This time she brought her beloved little son, probably only about three or four years old.  At the tabernacle she took him to Eli, explaining who she was and why she brought her son to him.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I had been Hannah, I might have thought twice about giving my little treasure to Eli. As you remember, he had not done a good job of raising his own sons!  But Hannah did not hesitate.  A promise was a promise! God would take care of her precious son Samuel who had been dedicated to the Lord even before he was conceived.  How happy she was to be able to bring her son to serve Go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imagine that she must have had an empty ache in her heart when she went back home, but she didn’t dwell on it.  God had given her a son, and she had kept her promise and given him back to God.  God gave Hannah many more children after Samuel, but Samuel was special, her miracle chil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nnah’s story probably reminds many of us of a time we have taken a son or daughter to boarding school for the first time.  It isn’t easy to leave them. In fact, we may cry a bit even though we know they will come home for Christmas and each vacation.  Hannah was leaving her little son for good.  He would never again come home to live with her.  But Hannah was keeping her promise to God. He had answered her prayer, and she kept her promise.  She wanted only that her son might honor God and bless his fellow men.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r faith lived on in her son.  Samuel, who was born in answer to prayer and whose name constantly reminded him of that, became a man of prayer himself. In just a few short years Hannah had fashioned her son’s character in such a way that he became a blessing for the whole nation.  God conversed with this little boy from his early years and throughout his life.  What a man of God he became! Hannah took her ministry seriously.  She made certain that her son knew, even as a little child, who he was, why he was alive, and who he was to serve.  During her yearly visit, she always reminded her son that he had been promised to the Lord.  She took her promise to God seriously and taught her son to do the same.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about you and me?  Have we made promises we haven’t kept?  Our promises to each other should not be made unless we mean to keep them.  And our promises to God are even more importan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15A2-51D9-4A83-8A77-E177689CF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A720E-3DFC-4BE2-9978-E0B53AB4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C1748-78FC-406D-AF06-4BC80723E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03010-A0A9-452A-90BE-6D70EC367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6874C-4D37-4396-9E8A-8810706C5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70B5C-D562-4E94-8A8A-CA1F8F645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B684-F363-47E5-80A6-A1199736C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120CA-40B4-4ED7-B070-E5897F99C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681D2-59DC-4A29-B0EE-48440840B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3CC9B-1949-49DD-ADB8-23AE3E7CB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E680C-4112-4BD7-85B4-BC5A4B253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D232A-6B4D-4AD5-AE72-B73C5E9B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E4CDF-08ED-4E71-B84F-A2ED7EBF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796A2-F68A-4133-92A4-5E00142F2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2AAC-8D19-4F18-941E-AF225E805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DAE7A-74D9-4B2A-AA4D-A561A5C6E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EC258-D0DE-4025-8223-CE2471FCA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3026E-1FA8-4247-A797-C2F04732B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DD67-CDB6-4798-84D0-C2BF1B3B1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B54AB-75EA-4F93-A074-928B5794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76D4C-F3F9-4CD4-8669-0C7B630B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08CFD-5DAB-46E5-A60E-C7C9E8E3B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7E78-E4A1-498F-ACF1-1ED03D2E6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A1A8-059D-4229-B1BF-6F4D29113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46115-6153-4E75-A17B-AA053A28D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8B15-0A6E-4463-985B-C50A2BCFF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86EF-C46F-4FA7-8458-14F8A5C6B35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4446720" y="3726000"/>
            <a:ext cx="4697280" cy="3132000"/>
          </a:xfrm>
          <a:prstGeom prst="rect">
            <a:avLst/>
          </a:prstGeom>
          <a:ln w="0">
            <a:noFill/>
          </a:ln>
        </p:spPr>
      </p:pic>
      <p:sp>
        <p:nvSpPr>
          <p:cNvPr id="90"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A </a:t>
            </a:r>
            <a:r>
              <a:rPr b="1" lang="en-AU" sz="4800" spc="-1" strike="noStrike">
                <a:solidFill>
                  <a:srgbClr val="000000"/>
                </a:solidFill>
                <a:latin typeface="Segoe Script"/>
              </a:rPr>
              <a:t>P</a:t>
            </a:r>
            <a:r>
              <a:rPr b="1" lang="en-AU" sz="4400" spc="-1" strike="noStrike">
                <a:solidFill>
                  <a:srgbClr val="000000"/>
                </a:solidFill>
                <a:latin typeface="Segoe Script"/>
              </a:rPr>
              <a:t>romise</a:t>
            </a:r>
            <a:r>
              <a:rPr b="1" lang="en-AU" sz="4400" spc="-1" strike="noStrike">
                <a:solidFill>
                  <a:srgbClr val="000000"/>
                </a:solidFill>
                <a:latin typeface="Calibri"/>
              </a:rPr>
              <a:t> is a </a:t>
            </a:r>
            <a:r>
              <a:rPr b="1" lang="en-AU" sz="4800" spc="-1" strike="noStrike">
                <a:solidFill>
                  <a:srgbClr val="000000"/>
                </a:solidFill>
                <a:latin typeface="Segoe Script"/>
              </a:rPr>
              <a:t>P</a:t>
            </a:r>
            <a:r>
              <a:rPr b="1" lang="en-AU" sz="4400" spc="-1" strike="noStrike">
                <a:solidFill>
                  <a:srgbClr val="000000"/>
                </a:solidFill>
                <a:latin typeface="Segoe Script"/>
              </a:rPr>
              <a:t>romise</a:t>
            </a:r>
            <a:br>
              <a:rPr sz="4400"/>
            </a:br>
            <a:r>
              <a:rPr b="1" lang="en-AU" sz="2000" spc="-1" strike="noStrike">
                <a:solidFill>
                  <a:srgbClr val="000000"/>
                </a:solidFill>
                <a:latin typeface="Calibri"/>
              </a:rPr>
              <a:t>by Erna Johnson </a:t>
            </a:r>
            <a:endParaRPr b="0" lang="en-US" sz="2000" spc="-1" strike="noStrike">
              <a:solidFill>
                <a:srgbClr val="000000"/>
              </a:solidFill>
              <a:latin typeface="Calibri"/>
            </a:endParaRPr>
          </a:p>
        </p:txBody>
      </p:sp>
      <p:sp>
        <p:nvSpPr>
          <p:cNvPr id="91" name="PlaceHolder 2"/>
          <p:cNvSpPr>
            <a:spLocks noGrp="1"/>
          </p:cNvSpPr>
          <p:nvPr>
            <p:ph type="subTitle"/>
          </p:nvPr>
        </p:nvSpPr>
        <p:spPr>
          <a:xfrm>
            <a:off x="1371600" y="2743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dobe Caslon Pro"/>
              </a:rPr>
              <a:t>2011 I</a:t>
            </a:r>
            <a:r>
              <a:rPr b="1" lang="en-US" sz="2400" spc="-1" strike="noStrike">
                <a:solidFill>
                  <a:srgbClr val="336600"/>
                </a:solidFill>
                <a:latin typeface="Adobe Caslon Pro"/>
              </a:rPr>
              <a:t>nternational </a:t>
            </a:r>
            <a:r>
              <a:rPr b="1" lang="en-US" sz="2800" spc="-1" strike="noStrike">
                <a:solidFill>
                  <a:srgbClr val="336600"/>
                </a:solidFill>
                <a:latin typeface="Adobe Caslon Pro"/>
              </a:rPr>
              <a:t>D</a:t>
            </a:r>
            <a:r>
              <a:rPr b="1" lang="en-US" sz="2400" spc="-1" strike="noStrike">
                <a:solidFill>
                  <a:srgbClr val="336600"/>
                </a:solidFill>
                <a:latin typeface="Adobe Caslon Pro"/>
              </a:rPr>
              <a:t>ay of </a:t>
            </a:r>
            <a:r>
              <a:rPr b="1" lang="en-US" sz="2800" spc="-1" strike="noStrike">
                <a:solidFill>
                  <a:srgbClr val="336600"/>
                </a:solidFill>
                <a:latin typeface="Adobe Caslon Pro"/>
              </a:rPr>
              <a:t>P</a:t>
            </a:r>
            <a:r>
              <a:rPr b="1" lang="en-US" sz="2400" spc="-1" strike="noStrike">
                <a:solidFill>
                  <a:srgbClr val="336600"/>
                </a:solidFill>
                <a:latin typeface="Adobe Caslon Pro"/>
              </a:rPr>
              <a:t>rayer</a:t>
            </a:r>
            <a:endParaRPr b="0" lang="en-US" sz="24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dobe Caslon Pro"/>
              </a:rPr>
              <a:t>General Conference</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dobe Caslon Pro"/>
              </a:rPr>
              <a:t>Women's Ministries Department</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2" name="Picture 6" descr="WMLOGO-small"/>
          <p:cNvPicPr/>
          <p:nvPr/>
        </p:nvPicPr>
        <p:blipFill>
          <a:blip r:embed="rId2"/>
          <a:stretch/>
        </p:blipFill>
        <p:spPr>
          <a:xfrm>
            <a:off x="3962520" y="4186080"/>
            <a:ext cx="106668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09" name=""/>
          <p:cNvSpPr txBox="1"/>
          <p:nvPr/>
        </p:nvSpPr>
        <p:spPr>
          <a:xfrm>
            <a:off x="914040" y="914400"/>
            <a:ext cx="7543800" cy="49500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What about your promises to God?  Have you promised Him your life? Your whole heart?  Can you give Him your most loved treasure, as Hannah did? Would you like to renew your promise to the Lord as we finish this morning’s service?  </a:t>
            </a:r>
            <a:endParaRPr b="0" lang="en-US" sz="32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dobe Garamond Pro Bold"/>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11" name=""/>
          <p:cNvSpPr txBox="1"/>
          <p:nvPr/>
        </p:nvSpPr>
        <p:spPr>
          <a:xfrm>
            <a:off x="1905120" y="755280"/>
            <a:ext cx="6248160" cy="5721480"/>
          </a:xfrm>
          <a:prstGeom prst="rect">
            <a:avLst/>
          </a:prstGeom>
          <a:noFill/>
          <a:ln w="0">
            <a:noFill/>
          </a:ln>
        </p:spPr>
        <p:txBody>
          <a:bodyPr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life, and let it be</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Consecrated, Lord, to Thee.</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moments and my days;</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Let them flow in ceaseless praise.</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hands, and let them move</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At the impulse of Thy love.</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feet, and let them be</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Swift and beautiful for Th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13" name=""/>
          <p:cNvSpPr txBox="1"/>
          <p:nvPr/>
        </p:nvSpPr>
        <p:spPr>
          <a:xfrm>
            <a:off x="1752480" y="685800"/>
            <a:ext cx="6400800" cy="5524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voice, and let me s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always, only, for my K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lips, and let them b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Filled with messages for The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silver and my gol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Not a mite would I withhold.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intellect, and use</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Every power as Thou choose</a:t>
            </a:r>
            <a:r>
              <a:rPr b="0" lang="en-US" sz="2800" spc="-1" strike="noStrike">
                <a:solidFill>
                  <a:srgbClr val="000000"/>
                </a:solidFill>
                <a:latin typeface="Adobe Garamond Pro Bold"/>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15" name=""/>
          <p:cNvSpPr txBox="1"/>
          <p:nvPr/>
        </p:nvSpPr>
        <p:spPr>
          <a:xfrm>
            <a:off x="1447920" y="836280"/>
            <a:ext cx="7238880" cy="5792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will, and make it Thi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It shall be no longer mi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heart, it is Thine ow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It shall be Thy royal thro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 love, I pou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At Thy feet its treasure-stor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Take myself, and I will b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Bold"/>
              </a:rPr>
              <a:t>Ever, only, all for Thee.</a:t>
            </a:r>
            <a:endParaRPr b="0" lang="en-US" sz="3200" spc="-1" strike="noStrike">
              <a:solidFill>
                <a:srgbClr val="000000"/>
              </a:solidFill>
              <a:latin typeface="Calibri"/>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dobe Garamond Pro Bold"/>
              </a:rPr>
              <a:t>Frances Ridley Havergal (1836-187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5029200" y="4114800"/>
            <a:ext cx="4114800" cy="2743200"/>
          </a:xfrm>
          <a:prstGeom prst="rect">
            <a:avLst/>
          </a:prstGeom>
          <a:ln w="0">
            <a:noFill/>
          </a:ln>
        </p:spPr>
      </p:pic>
      <p:sp>
        <p:nvSpPr>
          <p:cNvPr id="94" name=""/>
          <p:cNvSpPr txBox="1"/>
          <p:nvPr/>
        </p:nvSpPr>
        <p:spPr>
          <a:xfrm>
            <a:off x="838080" y="762120"/>
            <a:ext cx="73152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Adobe Caslon Pro Bold"/>
              </a:rPr>
              <a:t>In bitterness of soul Hannah wept much and prayed to the Lord. And she made a vow saying, “O Lord almighty, if you will only look upon your servant’s misery and remember me, and not forget your servant but give her a son, then I will give him to the Lord for all the days of His life.” </a:t>
            </a:r>
            <a:endParaRPr b="0" lang="en-US" sz="32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Adobe Caslon Pro Bold"/>
              </a:rPr>
              <a:t>1 Samuel 1:10-11</a:t>
            </a:r>
            <a:endParaRPr b="0" lang="en-US" sz="2400" spc="-1" strike="noStrike">
              <a:solidFill>
                <a:srgbClr val="000000"/>
              </a:solidFill>
              <a:latin typeface="Calibri"/>
            </a:endParaRPr>
          </a:p>
          <a:p>
            <a:pPr algn="ctr">
              <a:lnSpc>
                <a:spcPct val="10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96" name=""/>
          <p:cNvSpPr txBox="1"/>
          <p:nvPr/>
        </p:nvSpPr>
        <p:spPr>
          <a:xfrm>
            <a:off x="380520" y="1371240"/>
            <a:ext cx="8713800" cy="4049640"/>
          </a:xfrm>
          <a:prstGeom prst="rect">
            <a:avLst/>
          </a:prstGeom>
          <a:noFill/>
          <a:ln w="0">
            <a:noFill/>
          </a:ln>
        </p:spPr>
        <p:txBody>
          <a:bodyPr anchor="t">
            <a:normAutofit fontScale="96000"/>
          </a:bodyPr>
          <a:p>
            <a:pPr marL="329040" indent="-32904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52a"/>
                </a:solidFill>
                <a:latin typeface="Adobe Garamond Pro Bold"/>
              </a:rPr>
              <a:t>	</a:t>
            </a:r>
            <a:r>
              <a:rPr b="0" lang="en-US" sz="4400" spc="-1" strike="noStrike">
                <a:solidFill>
                  <a:srgbClr val="4a452a"/>
                </a:solidFill>
                <a:latin typeface="Adobe Garamond Pro Bold"/>
              </a:rPr>
              <a:t>“</a:t>
            </a:r>
            <a:r>
              <a:rPr b="0" lang="en-US" sz="4400" spc="-1" strike="noStrike">
                <a:solidFill>
                  <a:srgbClr val="4a452a"/>
                </a:solidFill>
                <a:latin typeface="Adobe Garamond Pro Bold"/>
              </a:rPr>
              <a:t>She was a woman of </a:t>
            </a:r>
            <a:r>
              <a:rPr b="0" lang="en-US" sz="4400" spc="-1" strike="noStrike">
                <a:solidFill>
                  <a:srgbClr val="77933c"/>
                </a:solidFill>
                <a:latin typeface="Adobe Garamond Pro Bold"/>
              </a:rPr>
              <a:t>fervent piety, gentle and unassuming;</a:t>
            </a:r>
            <a:r>
              <a:rPr b="0" lang="en-US" sz="4400" spc="-1" strike="noStrike">
                <a:solidFill>
                  <a:srgbClr val="4a452a"/>
                </a:solidFill>
                <a:latin typeface="Adobe Garamond Pro Bold"/>
              </a:rPr>
              <a:t> her character was marked with deep </a:t>
            </a:r>
            <a:r>
              <a:rPr b="0" lang="en-US" sz="4400" spc="-1" strike="noStrike">
                <a:solidFill>
                  <a:srgbClr val="77933c"/>
                </a:solidFill>
                <a:latin typeface="Adobe Garamond Pro Bold"/>
              </a:rPr>
              <a:t>earnestness and a lofty faith</a:t>
            </a:r>
            <a:r>
              <a:rPr b="0" lang="en-US" sz="4400" spc="-1" strike="noStrike">
                <a:solidFill>
                  <a:srgbClr val="4a452a"/>
                </a:solidFill>
                <a:latin typeface="Adobe Garamond Pro Bold"/>
              </a:rPr>
              <a:t>.”</a:t>
            </a:r>
            <a:endParaRPr b="0" lang="en-US" sz="4400" spc="-1" strike="noStrike">
              <a:solidFill>
                <a:srgbClr val="000000"/>
              </a:solidFill>
              <a:latin typeface="Calibri"/>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a452a"/>
                </a:solidFill>
                <a:latin typeface="Adobe Garamond Pro Bold"/>
              </a:rPr>
              <a:t> </a:t>
            </a:r>
            <a:r>
              <a:rPr b="0" i="1" lang="en-AU" sz="2800" spc="-1" strike="noStrike">
                <a:solidFill>
                  <a:srgbClr val="4a452a"/>
                </a:solidFill>
                <a:latin typeface="Adobe Garamond Pro Bold"/>
              </a:rPr>
              <a:t>Patriarch and Prophets,  p. 56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dmtas0136"/>
          <p:cNvPicPr/>
          <p:nvPr/>
        </p:nvPicPr>
        <p:blipFill>
          <a:blip r:embed="rId1"/>
          <a:stretch/>
        </p:blipFill>
        <p:spPr>
          <a:xfrm>
            <a:off x="5280120" y="2500200"/>
            <a:ext cx="3863880" cy="4357800"/>
          </a:xfrm>
          <a:prstGeom prst="rect">
            <a:avLst/>
          </a:prstGeom>
          <a:ln w="0">
            <a:noFill/>
          </a:ln>
        </p:spPr>
      </p:pic>
      <p:sp>
        <p:nvSpPr>
          <p:cNvPr id="98" name="PlaceHolder 1"/>
          <p:cNvSpPr>
            <a:spLocks noGrp="1"/>
          </p:cNvSpPr>
          <p:nvPr>
            <p:ph type="title"/>
          </p:nvPr>
        </p:nvSpPr>
        <p:spPr>
          <a:xfrm>
            <a:off x="304920" y="228240"/>
            <a:ext cx="5286240" cy="600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dobe Garamond Pro Bold"/>
              </a:rPr>
              <a:t>“</a:t>
            </a:r>
            <a:r>
              <a:rPr b="0" lang="en-US" sz="3600" spc="-1" strike="noStrike">
                <a:solidFill>
                  <a:srgbClr val="003300"/>
                </a:solidFill>
                <a:latin typeface="Adobe Garamond Pro Bold"/>
              </a:rPr>
              <a:t>O Lord of hosts” she began her prayer, therefore declaring Him to be the host of heaven and earth, of everything He had created.  These words also expressed her faith in His greatness and migh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00" name=""/>
          <p:cNvSpPr txBox="1"/>
          <p:nvPr/>
        </p:nvSpPr>
        <p:spPr>
          <a:xfrm>
            <a:off x="762120" y="1357200"/>
            <a:ext cx="8167680" cy="50436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Bold"/>
              </a:rPr>
              <a:t>“</a:t>
            </a:r>
            <a:r>
              <a:rPr b="0" lang="en-US" sz="3200" spc="-1" strike="noStrike">
                <a:solidFill>
                  <a:srgbClr val="000000"/>
                </a:solidFill>
                <a:latin typeface="Adobe Garamond Pro Bold"/>
              </a:rPr>
              <a:t>Prayer is not an expiation for sin; it has no virtue or merit of itself.  All the flowery words at our command are not equivalent to one holy desire.  </a:t>
            </a:r>
            <a:r>
              <a:rPr b="0" lang="en-US" sz="3200" spc="-1" strike="noStrike">
                <a:solidFill>
                  <a:srgbClr val="336600"/>
                </a:solidFill>
                <a:latin typeface="Adobe Garamond Pro Bold"/>
              </a:rPr>
              <a:t>The most eloquent prayers are but idle words if they do not express the true sentiments of the hea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02" name=""/>
          <p:cNvSpPr txBox="1"/>
          <p:nvPr/>
        </p:nvSpPr>
        <p:spPr>
          <a:xfrm>
            <a:off x="1143000" y="1219320"/>
            <a:ext cx="731520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Bold"/>
              </a:rPr>
              <a:t>But the prayer that comes from an earnest heart, when the simple wants of the soul are expressed, as we would ask an earthly friend for a favor, </a:t>
            </a:r>
            <a:r>
              <a:rPr b="0" lang="en-US" sz="3200" spc="-1" strike="noStrike">
                <a:solidFill>
                  <a:srgbClr val="336600"/>
                </a:solidFill>
                <a:latin typeface="Adobe Garamond Pro Bold"/>
              </a:rPr>
              <a:t>expecting it to be granted – this is the prayer of faith.”</a:t>
            </a:r>
            <a:r>
              <a:rPr b="0" lang="en-AU" sz="3200" spc="-1" strike="noStrike">
                <a:solidFill>
                  <a:srgbClr val="336600"/>
                </a:solidFill>
                <a:latin typeface="Adobe Garamond Pro Bold"/>
              </a:rPr>
              <a:t> </a:t>
            </a:r>
            <a:r>
              <a:rPr b="0" lang="en-AU" sz="2400" spc="-1" strike="noStrike">
                <a:solidFill>
                  <a:srgbClr val="000000"/>
                </a:solidFill>
                <a:latin typeface="Adobe Garamond Pro Bold"/>
              </a:rPr>
              <a:t>Thoughts from the Mount of Blessing, 86</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04" name=""/>
          <p:cNvSpPr txBox="1"/>
          <p:nvPr/>
        </p:nvSpPr>
        <p:spPr>
          <a:xfrm>
            <a:off x="990720" y="1646280"/>
            <a:ext cx="7696080" cy="452592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00"/>
                </a:solidFill>
                <a:latin typeface="Adobe Garamond Pro Bold"/>
              </a:rPr>
              <a:t>“</a:t>
            </a:r>
            <a:r>
              <a:rPr b="1" lang="en-US" sz="4400" spc="-1" strike="noStrike">
                <a:solidFill>
                  <a:srgbClr val="336600"/>
                </a:solidFill>
                <a:latin typeface="Adobe Garamond Pro Bold"/>
              </a:rPr>
              <a:t>Now faith is being sure of what we hope for and certain of what we do not see.”</a:t>
            </a:r>
            <a:endParaRPr b="0" lang="en-US" sz="44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6600"/>
                </a:solidFill>
                <a:latin typeface="Adobe Garamond Pro Bold"/>
              </a:rPr>
              <a:t>Hebrews 1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lwjas0125"/>
          <p:cNvPicPr/>
          <p:nvPr/>
        </p:nvPicPr>
        <p:blipFill>
          <a:blip r:embed="rId1"/>
          <a:stretch/>
        </p:blipFill>
        <p:spPr>
          <a:xfrm>
            <a:off x="1566720" y="-6480"/>
            <a:ext cx="5864400" cy="687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ArraisR\Documents\Backgrounds\flowers\Border-tulip.jpg"/>
          <p:cNvPicPr/>
          <p:nvPr/>
        </p:nvPicPr>
        <p:blipFill>
          <a:blip r:embed="rId1"/>
          <a:stretch/>
        </p:blipFill>
        <p:spPr>
          <a:xfrm>
            <a:off x="0" y="0"/>
            <a:ext cx="3429000" cy="6870600"/>
          </a:xfrm>
          <a:prstGeom prst="rect">
            <a:avLst/>
          </a:prstGeom>
          <a:ln w="0">
            <a:noFill/>
          </a:ln>
        </p:spPr>
      </p:pic>
      <p:sp>
        <p:nvSpPr>
          <p:cNvPr id="107" name=""/>
          <p:cNvSpPr txBox="1"/>
          <p:nvPr/>
        </p:nvSpPr>
        <p:spPr>
          <a:xfrm>
            <a:off x="937800" y="1143000"/>
            <a:ext cx="7900920" cy="4525920"/>
          </a:xfrm>
          <a:prstGeom prst="rect">
            <a:avLst/>
          </a:prstGeom>
          <a:noFill/>
          <a:ln w="0">
            <a:noFill/>
          </a:ln>
        </p:spPr>
        <p:txBody>
          <a:bodyPr anchor="t">
            <a:normAutofit fontScale="98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dobe Garamond Pro Bold"/>
              </a:rPr>
              <a:t>“</a:t>
            </a:r>
            <a:r>
              <a:rPr b="1" lang="en-AU" sz="3200" spc="-1" strike="noStrike">
                <a:solidFill>
                  <a:srgbClr val="000000"/>
                </a:solidFill>
                <a:latin typeface="Adobe Garamond Pro Bold"/>
              </a:rPr>
              <a:t>The mother is the queen of the home, and the children are her subjects. She is to rule her household wisely, in the dignity of her motherhood. Her influence in the home is to be paramount; her word, law. If she is a Christian, under God's control, she will command the respect of her children.” </a:t>
            </a:r>
            <a:endParaRPr b="0" lang="en-US" sz="32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dobe Garamond Pro Bold"/>
              </a:rPr>
              <a:t>The Adventist Home, p. 232</a:t>
            </a:r>
            <a:endParaRPr b="0" lang="en-US" sz="2800" spc="-1" strike="noStrike">
              <a:solidFill>
                <a:srgbClr val="000000"/>
              </a:solidFill>
              <a:latin typeface="Calibri"/>
            </a:endParaRPr>
          </a:p>
          <a:p>
            <a:pPr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5:01:42Z</dcterms:created>
  <dc:creator>Raquel Arrais</dc:creator>
  <dc:description/>
  <dc:language>en-US</dc:language>
  <cp:lastModifiedBy>Pr Josney</cp:lastModifiedBy>
  <dcterms:modified xsi:type="dcterms:W3CDTF">2011-02-08T15:29:34Z</dcterms:modified>
  <cp:revision>16</cp:revision>
  <dc:subject/>
  <dc:title>A Promise is a Promise by Erna Johnson</dc:title>
</cp:coreProperties>
</file>